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D9A1-E3BA-4F96-9466-85F88513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A9A-7B07-4756-9927-70DA3016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FD4-C85A-4CC9-9C80-6200EC70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4AFC-2541-488F-AF24-51147551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7D3-2BD0-4D1E-BAD0-63F82238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44F-E252-4FDF-A3E3-4D15E437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DA41-8CF4-4DE9-A96E-D85C5232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A84-3130-48CC-A0EF-0537D0E4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693-AE95-451F-9C83-008601CF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30D-C895-4CC2-8F0A-B177BDF5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8FA-DAED-43EE-A89E-79A657A2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336-DE33-4A6F-B72A-71DB26F1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68BD-F89F-4E7A-A9D7-8ECF5876A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53880"/>
            <a:ext cx="7696080" cy="5970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7696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바탕"/>
              </a:rPr>
              <a:t>ECHIP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바탕"/>
              </a:rPr>
              <a:t>CLAEI </a:t>
            </a: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I-III C</a:t>
            </a:r>
            <a:r>
              <a:rPr b="1" lang="en-US" sz="4000" spc="-1" strike="noStrike">
                <a:solidFill>
                  <a:srgbClr val="000000"/>
                </a:solidFill>
                <a:latin typeface="바탕"/>
              </a:rPr>
              <a:t> VA INVITA IN </a:t>
            </a: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N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lackadder ITC"/>
              </a:rPr>
              <a:t>Fenomene ale naturi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MEMBRI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ECHIPE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na  Cris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y No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fi Brigi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ho Em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tas Sz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tas Norb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igeti Sandor    Indrumator: Halmagyi Izabe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371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3733920"/>
            <a:ext cx="1981440" cy="13716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nomene ale natur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gerul                                   Ninso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3:52:49Z</dcterms:created>
  <dc:creator>ws13</dc:creator>
  <dc:description/>
  <dc:language>en-US</dc:language>
  <cp:lastModifiedBy>ws13</cp:lastModifiedBy>
  <dcterms:modified xsi:type="dcterms:W3CDTF">2009-12-14T09:24:26Z</dcterms:modified>
  <cp:revision>3</cp:revision>
  <dc:subject/>
  <dc:title>ECHIPA CLASEI I-III C VA INVITA IN NATURA </dc:title>
</cp:coreProperties>
</file>